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D1D-C6F7-461A-A5E0-1F3E569E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75A-48AD-4D75-B992-B0F69106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BDC-7B5B-4C27-8516-0E6CB5AB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522-F70F-4CA6-A049-944EAAEB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562-589A-4D0F-A252-A168B4D3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F50-18B4-45ED-9C3F-95F80FEF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250-3822-4746-9C76-D6A2146D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425-994D-41AB-82E9-3CE90F12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8DA-A2E2-437E-A826-038B4315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209-35F9-469E-B278-25B63618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400-3868-47A4-877F-184247D1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14D-8520-450B-BEA8-4D42D1A8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8C70-701C-48EF-83B2-2C79BE832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otects you from cruel and unusual punish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ght to vote in federal elections cannot be denied for failure to pay poll ta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enumerated rights – individual rights given but not expressed in the Constit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ght to vote for African-Americ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omen’s suffrage – no person, male or female, can be denied the right to vo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.S. citizens 18 years and older given the right to v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ohibition law lif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nators are elected by the voters in each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ights of protection from unreasonable search and seizure – Right to priv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hibition of alcoh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ludes voters of the District of Colombia in the presidential elector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2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ngressional raises cannot take effect until after the following 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ght to trial by jury in civil c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ice president will take over office if the President resigns/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ights to due process:  right to not self-incriminate, double jeopardy, trial only after being indicted by a grand ju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ngress has the power to collect taxes on in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ight to a fair and speedy 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 not given or prohibited to the government are reserved for the st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qual protection under the law – people born in the U.S. or naturalized are citize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 lawsuit can be brought against the U.S. by citizens of another state or countr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reedom of religion, speech, press, assembly and 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ts end dates for terms of office for President and Cong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ight to bear a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esident may serve two consecutive terms in off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arate ballot for the election of President and Vice Pres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bids slavery and forced la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soldier in a time of peace shall be quartered in any 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8:36:19Z</dcterms:created>
  <dc:creator>haselhuhg</dc:creator>
  <dc:description/>
  <dc:language>en-US</dc:language>
  <cp:lastModifiedBy>lullmannj</cp:lastModifiedBy>
  <dcterms:modified xsi:type="dcterms:W3CDTF">2012-10-12T12:56:43Z</dcterms:modified>
  <cp:revision>2</cp:revision>
  <dc:subject/>
  <dc:title>Amendment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